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CBCD-022B-4829-AA9E-E233F7308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4B6-355A-436F-A3E1-49052991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AA4-09A3-41D6-BF16-A26C1169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643-0EBB-42D7-A52C-C7D1A68D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3AE-CEAC-4BE9-8EB1-5B8A0073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BAE-C14E-466C-96D4-2C439689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786-9C64-4BCB-9589-233A4A5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B5D-186F-4CE9-8762-FA81463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B89-5358-48C7-9E45-2EC43556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84C-39FE-4FF0-9524-9A8E7CF8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453-AFCD-49FA-9CF1-DB74E1D6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E081-3826-4812-B974-735B20B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FFE9-E7B4-48B2-9B23-6D7D1BB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91F-CD63-4381-82E2-881933B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2DB7-9F9E-4C31-855F-97F3AD0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E02-EDB8-4396-A032-679011D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246-F3C8-430E-B58A-AF25E52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6759-DD92-418C-A779-DDB15C2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6C90-0FA2-4AD6-AF55-D95C2DB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A403-0905-4E3E-8974-4698C9B5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412-5F77-491D-A928-6204E3F9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E345-ED56-4C1F-8D00-DB3117A0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FFC-D1F0-42A6-974F-4417087F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079-5639-4A43-847E-BE5C982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4AF-9A8D-43CF-9A26-5FEAA28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CE0-CA95-42C6-A40F-E6E5F40B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A59-BE06-44F4-9404-F14E25F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52C-3493-4E47-88CF-DD3A325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85A-D4B6-453C-9217-B61EA385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075-131A-4063-A317-1BE2A6E106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6A56-C380-4C48-AF80-3C40E6F73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7"/>
          <p:cNvSpPr/>
          <p:nvPr/>
        </p:nvSpPr>
        <p:spPr>
          <a:xfrm>
            <a:off x="831960" y="301680"/>
            <a:ext cx="7772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Arial"/>
              </a:rPr>
              <a:t>Yr 12 IB Chem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1720" y="3385080"/>
            <a:ext cx="28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om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a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www.consumerist.com/assets/resources/2006/10/alchemical.jpg"/>
          <p:cNvPicPr/>
          <p:nvPr/>
        </p:nvPicPr>
        <p:blipFill>
          <a:blip r:embed="rId1"/>
          <a:stretch/>
        </p:blipFill>
        <p:spPr>
          <a:xfrm>
            <a:off x="4248000" y="2000160"/>
            <a:ext cx="3810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31428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tom econo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60360" y="78588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measure of the percentage of the starting materials that actually ends up in the usefu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60360" y="135720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greater the % atom economy of a reaction, the more 'efficient' or 'economic' it is likely to be, the more sustainable the reaction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60360" y="2000160"/>
            <a:ext cx="65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o calculate the atom economy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60360" y="2500200"/>
            <a:ext cx="81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Write the balanced equation for the 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60360" y="2857680"/>
            <a:ext cx="7858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2.   Calculate the total mass of the reactants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0360" y="3500280"/>
            <a:ext cx="8001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.   Calculate the total mass of the “desired product” for the numbers of moles in the reaction equation ; m</a:t>
            </a:r>
            <a:r>
              <a:rPr b="0" lang="en-GB" sz="16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357120" y="3929040"/>
            <a:ext cx="4572000" cy="1303560"/>
            <a:chOff x="357120" y="3929040"/>
            <a:chExt cx="4572000" cy="1303560"/>
          </a:xfrm>
        </p:grpSpPr>
        <p:grpSp>
          <p:nvGrpSpPr>
            <p:cNvPr id="116" name="Group 13"/>
            <p:cNvGrpSpPr/>
            <p:nvPr/>
          </p:nvGrpSpPr>
          <p:grpSpPr>
            <a:xfrm>
              <a:off x="357120" y="3929040"/>
              <a:ext cx="4572000" cy="1303560"/>
              <a:chOff x="357120" y="3929040"/>
              <a:chExt cx="4572000" cy="1303560"/>
            </a:xfrm>
          </p:grpSpPr>
          <p:sp>
            <p:nvSpPr>
              <p:cNvPr id="117" name="Straight Connector 8"/>
              <p:cNvSpPr/>
              <p:nvPr/>
            </p:nvSpPr>
            <p:spPr>
              <a:xfrm>
                <a:off x="2928960" y="4577040"/>
                <a:ext cx="13572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"/>
              <p:cNvSpPr/>
              <p:nvPr/>
            </p:nvSpPr>
            <p:spPr>
              <a:xfrm>
                <a:off x="357120" y="3929040"/>
                <a:ext cx="45720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0000ff"/>
                  </a:buClr>
                  <a:buSzPct val="75000"/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4.                                    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product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 x  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GB" sz="1800" spc="-1" strike="noStrike" baseline="-25000">
                    <a:solidFill>
                      <a:srgbClr val="0000ff"/>
                    </a:solidFill>
                    <a:latin typeface="Arial"/>
                  </a:rPr>
                  <a:t>reacta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4"/>
            <p:cNvSpPr/>
            <p:nvPr/>
          </p:nvSpPr>
          <p:spPr>
            <a:xfrm>
              <a:off x="653040" y="441972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Atom economy  =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50">
            <a:hlinkClick r:id="" action="ppaction://hlinkshowjump?jump=nextslide"/>
          </p:cNvPr>
          <p:cNvSpPr/>
          <p:nvPr/>
        </p:nvSpPr>
        <p:spPr>
          <a:xfrm>
            <a:off x="8572680" y="2142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5183280" y="4168800"/>
            <a:ext cx="3355920" cy="252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: reactions involving only the production of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INGLE PRODUCT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ill have 100% atom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.g.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Cl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HCl  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C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+  3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2NH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142920"/>
            <a:ext cx="82864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for the production of lime (CaO) from limestone (CaCO3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O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is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066320" y="2428920"/>
            <a:ext cx="47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0.1 + 12.0  + 3(16.0)  = 100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049400" y="3056040"/>
            <a:ext cx="37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0.1  +  16.0  =  56.1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017360" y="371160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56.1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29120" y="3687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6.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428760" y="142920"/>
            <a:ext cx="8286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s for the extraction of titanium from titanium(IV) oxid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 +  2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2Mg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i  +  2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% atom economy of the overal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76400" y="3652920"/>
            <a:ext cx="69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47.9 + 2(16.0) + 12.0 + 2(2 x 35.5) + 2(24.3) = 282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560" y="406872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47.9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19160" y="4510080"/>
            <a:ext cx="34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7.9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8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4486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17.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7" descr=""/>
          <p:cNvPicPr/>
          <p:nvPr/>
        </p:nvPicPr>
        <p:blipFill>
          <a:blip r:embed="rId1"/>
          <a:stretch/>
        </p:blipFill>
        <p:spPr>
          <a:xfrm>
            <a:off x="963720" y="2968560"/>
            <a:ext cx="7107120" cy="493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000080" y="2428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mbining 2 equations for an overall equation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000080" y="5487840"/>
            <a:ext cx="7215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low atom economy is typical of a MULTISTAG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428760" y="142920"/>
            <a:ext cx="8429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quation for the extraction of copper from copper sulphid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 +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 +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Calculate the % atom economy of the re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If 9.60 tonnes of copper sulphide produce 4.80 tonnes of copper, calculate the %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482760" y="2214720"/>
            <a:ext cx="75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      CuS     +      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+      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66680" y="2571840"/>
            <a:ext cx="504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reactants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=   (63.5 + 32.1)  +  (2 x 16)  =  127.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042560" y="2928960"/>
            <a:ext cx="209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ff"/>
                </a:solidFill>
                <a:latin typeface="Arial"/>
              </a:rPr>
              <a:t>product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=   63.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022040" y="33368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tom economy  = 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63.5    x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27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4929120" y="33368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49.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28760" y="40006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   Theoretically, in excess oxygen, one mole CuS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one mole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874800" y="4357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(63.5 + 32.1)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857160" y="470376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5.6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874800" y="50608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g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63.5 / 95.6  =  0.664 g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857160" y="541800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1.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0.664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57160" y="577548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.e. 9.60 tonnes CuS  </a:t>
            </a:r>
            <a:r>
              <a:rPr b="0" lang="en-GB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9.60  x  0.664 =  6.38 tonnes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2281320" y="6157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% Yield Cu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710160" y="61545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4.80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210280" y="60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7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0">
            <a:hlinkClick r:id="" action="ppaction://hlinkshowjump?jump=nextslide"/>
          </p:cNvPr>
          <p:cNvSpPr/>
          <p:nvPr/>
        </p:nvSpPr>
        <p:spPr>
          <a:xfrm>
            <a:off x="85755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6T04:31:05Z</dcterms:created>
  <dc:creator>Nico Van De Casteele</dc:creator>
  <dc:description/>
  <dc:language>en-US</dc:language>
  <cp:lastModifiedBy>Nico Van De Casteele</cp:lastModifiedBy>
  <dcterms:modified xsi:type="dcterms:W3CDTF">2016-09-16T04:32:12Z</dcterms:modified>
  <cp:revision>3</cp:revision>
  <dc:subject/>
  <dc:title>PowerPoint Presentation</dc:title>
</cp:coreProperties>
</file>